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EF18-0BAE-4A24-A476-22F50FDD6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ilitator may ask students to identify the most effective thesis statement from the three listed examples.  The first example, while a well-phrased informative sentence, offers a factual statement rather than an argumentative claim that needs to be proven.  The third example also fails to provide an effective claim about the value of the V-chip.  The second example is the strongest argumentative thesis; it clearly articulates the writer’s position on the issue and suggests that the writer will proceed to prove this claim throughout the rest of th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depression different for teenagers?  Females?  Ma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depressed patients take med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rt therapy work for depres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esources do schools provide for depressed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ome schools have more depressed students than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causes of depression?  Can it be preven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reatment would be the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children have a say in the types of treatments they can g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rules for committing someone into a mental hospit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pression lead to other mental illn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Concept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is stat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ffered in this slide.  The facilitator may choose to emphasize to students the difference between a claim that has to be proven and a statement of fa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mouse to reveal answers to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05F-E078-49D0-9E82-0908766B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C1A-1C28-4A51-8C99-A105029D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E44-3807-4AEA-94EA-102A053B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697-ABB9-4AE6-AB71-338FCBC6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7ED6-44A6-4B15-9772-F3804E6E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C3A6-E27D-4015-B0CA-A2A8CDF6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6568-C931-46F3-9410-E89ECEFD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56D0-EB31-4E37-A13A-8A591B4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FB73-DFD9-449E-8A88-57C4F3E4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5310-E119-434C-BAA0-0945903C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E522-4BD5-4BDC-BA10-2AA7A873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404-FE03-4871-93A6-0AC5B4FB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0E32-2422-40AD-BB57-97CDB14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AF22-8D10-4894-9B86-1E1CE3B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6CAD-1230-4E3F-9AC6-ADF90BF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F7B6-8BFA-40DA-AE83-B2328894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6AC0-6760-475C-9FFD-1455C47B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660-CD25-4DF2-9EBA-7B4DD903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BE7-B945-4B90-9FEC-02BC5A58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E1F-72DE-4925-B5D8-EEF9212A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C76-2FE8-4DA2-9510-F5F1831F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71C-C3D9-480C-949E-26A7423B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A03-DFC7-42A6-8110-0D354312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930-2458-439A-BEDB-665D8FBA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D365-41A0-4FF0-AA21-C2FF6F9B60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01B3-FDD5-4425-B821-A80D7BE964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: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due Monday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Research Questions, Thesis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Pre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6767ff"/>
                </a:solidFill>
                <a:latin typeface="Cool"/>
              </a:rPr>
              <a:t>Position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on is YOUR point of view on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Patients suffering from depression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should avoid prescription medication and seek alternative treatment methods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Cool"/>
              </a:rPr>
              <a:t>Rationale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nale is the reason behind your posi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atients suffering from depression 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hould avoid prescription medication and seek alternative treatment methods</a:t>
            </a:r>
            <a:r>
              <a:rPr b="1" lang="en-US" sz="3200" spc="-1" strike="noStrike">
                <a:solidFill>
                  <a:srgbClr val="d9d8ec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33ff"/>
                </a:solidFill>
                <a:uFillTx/>
                <a:latin typeface="Arial"/>
              </a:rPr>
              <a:t>because the side affects of the medication does not effectively treat the source of the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Cool"/>
              </a:rPr>
              <a:t>Although Clause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although clause” shows an awareness of opposing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though some people feel that prescription drugs are necess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s suffering from depression should avoid prescription medication and seek alternative treatment methods because the side affects of the medication does not effectively treat the source of the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6767ff"/>
                </a:solidFill>
                <a:latin typeface="Cool"/>
              </a:rPr>
              <a:t>Polish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 makes thesis concise (shor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8ec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8e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ough some argue that prescription drugs are necessary for certain patients suffering from depression, there are much safer methods that can treat the actual source of the depress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thesis statement is the most effective for an argument about the need for V-chips in television se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, often too busy to watch television shows with their families, can monitor their children’s viewing habits with the aid of the V-c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parents monitor their children’s viewing habits, the V-chip should be a required feature for television sets sold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aper will describe a V-chip and examine the uses of the V-chip in American-made television 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ccccff"/>
                </a:solidFill>
                <a:latin typeface="Cool"/>
              </a:rPr>
              <a:t>YOU TRY IT!!!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S students who are behind in credits by the end of their sophomore year should or should not be sent automatically to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McCain should or should not the next U.S.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ents of teens who are scheduled to have abortions should or should not be notified of their teen’s plans by medical professio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merican celebrities should or should not adopt foreign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day:  Sources+Response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9: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 at least 5 facts mentioned in the vide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oking at these facts, write one sentence that explains what the video was saying about depress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py H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: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is Stat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day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s due tom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due Fri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is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thesis state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81280" y="20574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ST IMPORTANT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ckpoint for all main ideas and quo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factual statement, but a claim that has to be proven throughout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6360" y="2362320"/>
          <a:ext cx="341820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362320"/>
                    <a:ext cx="341820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tabl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compari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ypothesize why something happen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What ext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would be more effect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were the motives behind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ol"/>
              </a:rPr>
              <a:t>The Sheridan Baker Thesis Mach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chine has 5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1) Topic &amp;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2)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3)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4) Although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5) Po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ol"/>
              </a:rPr>
              <a:t>Topic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ic is what you will be discu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EX.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Ways to treat depres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5:16:37Z</dcterms:created>
  <dc:creator>Tucker</dc:creator>
  <dc:description/>
  <dc:language>en-US</dc:language>
  <cp:lastModifiedBy>Tucker</cp:lastModifiedBy>
  <dcterms:modified xsi:type="dcterms:W3CDTF">2010-05-18T23:11:03Z</dcterms:modified>
  <cp:revision>3</cp:revision>
  <dc:subject/>
  <dc:title>Agenda</dc:title>
</cp:coreProperties>
</file>